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058A-AFAE-4496-9358-FD99FE931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F368-8F6E-46B1-A4FB-B1E9B3D5B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F733-E40B-4474-8B4C-55D622C3A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805F-A05D-43F6-BD9D-AAF7E05A1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70BF-9EE3-40A1-B157-E04FCA7F4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6708-84D7-4D23-AB74-886286C1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A00B-DE14-470A-A596-1E393D707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B57-902A-47A7-A86E-C5737B16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96F-502A-4EA4-9D39-1C1E969F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4F3-4215-4CAF-BB1C-F7281FA2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69F-9599-4683-89ED-87D76628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C468-0876-49FE-9885-CDBDA335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9884-F36F-4C06-9506-0A93435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91BD-AC99-4EB0-9CBD-F76E5D40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278F-AA10-4B52-A655-A419CB1E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A65C-B8DC-421F-88F2-4E443CA6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8A66-E4BF-4F78-A345-04AEB7ED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C2B3-6FCB-4BA4-B748-40E090F6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4AF0-23A4-4C15-B79B-0DB65C35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7CC3-EA98-44C4-8C0C-E664314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E620-2D2E-4170-9CC0-A2B1F229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8019-A698-4E58-9BC3-1C41C096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DD8D-78F2-41BB-93D0-33C7C70B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BBA4-BAB7-4353-B732-22C5740B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C21-CD3F-4AAF-B571-84364D61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969-29B5-43AC-81E9-8516D7FD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DC71-08C5-4050-95B5-21CE4E83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934-2267-42CF-A98B-95A01CD0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87AE-2587-44D4-AAC2-7705B73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FA9-4FD6-48CE-A1C7-6863B53B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B22-B7E9-4052-A486-F5C7F2BB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15E2-77D1-425C-895D-6026BB8B3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145-E4B1-4E8F-9F0F-58B03D995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Rise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fe and Teachings of Muhamm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70000"/>
                </a:solidFill>
                <a:latin typeface="Futura"/>
              </a:rPr>
              <a:t>Beliefs &amp; Practices cont</a:t>
            </a:r>
            <a:r>
              <a:rPr b="0" lang="en-US" sz="3600" spc="-1" strike="noStrike">
                <a:solidFill>
                  <a:srgbClr val="c7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do not separate their __________________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customs, morals, and laws for Islamic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bidden to eat ____ or to drink _____________ bever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afternoons set aside for communal worship and prayer; if able, Muslims gather at a Mosque to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Muslim expected to worship God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us clas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l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religious teachers study the words and deeds of 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f Allah revealed to _________ through _______ in the form of the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rs of Muhammad listened to prayers and teachings, memorized and recited the Rev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his death, _________ recorded i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000"/>
                </a:solidFill>
                <a:latin typeface="Arial"/>
              </a:rPr>
              <a:t>The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______ (______________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_______ is used in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ver Muslims carried the Qur’an, Arabic became the 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rabic language spreads widely as Muslim control exp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hammad’s mission was to receive the Qur’an and to demonstrate how to li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____________________, best model for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and ______ assembled to create body of law known 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f law that regulates 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eparate ________ matters from criminal/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applies to all following teachings of the Prophet, thus creates sense of unity for all Musl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066680" y="304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000"/>
                </a:solidFill>
                <a:latin typeface="Impact"/>
              </a:rPr>
              <a:t>MUHAMMAD S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Muhammad in Mecca"/>
          <p:cNvPicPr/>
          <p:nvPr/>
        </p:nvPicPr>
        <p:blipFill>
          <a:blip r:embed="rId1"/>
          <a:stretch/>
        </p:blipFill>
        <p:spPr>
          <a:xfrm>
            <a:off x="152280" y="1371600"/>
            <a:ext cx="3586320" cy="50734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286000" y="838080"/>
            <a:ext cx="6553080" cy="2514600"/>
          </a:xfrm>
          <a:prstGeom prst="wedgeEllipseCallout">
            <a:avLst>
              <a:gd name="adj1" fmla="val -43750"/>
              <a:gd name="adj2" fmla="val 69379"/>
            </a:avLst>
          </a:prstGeom>
          <a:solidFill>
            <a:srgbClr val="5554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GRIEF YODER!  ST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GIVE THESE GUYS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71800" y="4343400"/>
            <a:ext cx="5791320" cy="2057400"/>
          </a:xfrm>
          <a:prstGeom prst="wedgeRoundRectCallout">
            <a:avLst>
              <a:gd name="adj1" fmla="val -61981"/>
              <a:gd name="adj2" fmla="val -54629"/>
              <a:gd name="adj3" fmla="val 16667"/>
            </a:avLst>
          </a:prstGeom>
          <a:solidFill>
            <a:srgbClr val="5554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THE “A FOR ALLAH” PROJECT WOULD BE A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IDEA!  SHOW THEM THIS VIDEO CLIP FIRS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THEN HAND OUT THE ASSIGNMENT!  CAN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HANDLE THAT YO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Spread of ______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-Bakr elected as fir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___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yal friend of Muhammad, respected for devotion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Rightly Guided” Cali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u-Bakr, Umar, Uthman, 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to as “rightly guided” because they 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rule was called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-Ba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military force to reassert the authority of Muhammad’s successors in the Muslim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gained experience and became an effective mobile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time of his death, the Muslim state controlled all of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y disciplined armies conquered Syria and lower Egypt (Byzant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took parts of the Persian Empi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Spread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hman &amp; 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d to expand Muslim territory both eastward and wes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ed support of conquered militaries and naval forces and used these forces to further con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750, the Muslim Empire stretched 6,000 miles (from the Atlantic Ocean to the Indus River) 2x the distance across the U.S. (pg 2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cs enabled them to overwhelm forces unaccustomed to their style of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kness in the two empires of North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conflicts between ___________ and _______________exhausted the armies and allowed the Muslim army to invade their 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ecuted people of the Byzantines and Persians often welcomed the invading Muslims seeing them as 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70000"/>
                </a:solidFill>
                <a:latin typeface="Arial"/>
              </a:rPr>
              <a:t>Treatment of Conquere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converted to Islam for two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llowed conquered peoples to retain their own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s and Jews received special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a 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s/Jews not allowed to ______ their religion, but still played important roles as 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0000"/>
                </a:solidFill>
                <a:latin typeface="Arial"/>
              </a:rPr>
              <a:t>Internal Conflict Creates a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ing Caliph, Uthman, was murdered in 656 sparking a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Muslim groups began to struggle for control of the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, a cousin and son-in-law of Muhammad is chosen as cali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551, Ali is assassinated and with his death, the _____________of choosing a caliph also 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mayya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to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up 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d the Muslim capital to Damascus; made controlling conquered territorie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simple life of previous caliphs and surrounded themselves with w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reates a split in the Muslim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000"/>
                </a:solidFill>
                <a:latin typeface="Arial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uslims accepted Ummayyad rule; some did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“party” of Ali; felt caliphs needed to be relatives of Muhamm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ose who did not openly resist Umayyad rule; meaning followers of Muhammad’s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reacted to Umayyad’s life of luxury by emphasizing a more spiritual way of life; helped keep Muslims focused on the Qur’an and tradition; later became missionaries in newly conquered 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bas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k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750, rebel groups overthrow the Umayyads following vigorous religious and political opposition; the most powerful of these groups ar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basids; Abbasi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rder the remain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ayy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basids (750 - 12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the lands of modern Iraq, Iran, and central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the city of Baghdad (southern Iraq) as their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heir location to control the rich trade between China and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-And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Umayyad prince escaped the murders and went to Spain; Muslims known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rb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living 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nce creates a Muslim state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-Anda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yyads of al-Andalus (756 - 976) control parts of Spain and Nor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diplomats to Charlemagne’s court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timid Dynasty (909 - 117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many independent Muslim states that appeared during the rule of the Abbas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after Muhammad’s daughter, the Fatima Dynasty began in North Africa and spread across the Red Sea to western Arabia and Sy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Muslims were divided politically, all of the different communities were linked by 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005f"/>
                </a:solidFill>
                <a:latin typeface="Futura"/>
              </a:rPr>
              <a:t>Deserts, Towns, and Traveler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bian Penins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almost completely covered by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ded animals, leading them to fertile grounds called an o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ads call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 became important as the Bedouins began living in towns and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arly 600s, trade became an important activity in the Arabian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serts, Towns, &amp; Travel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routes through Arabia ran from the extreme south of the peninsula to the __________ and _________ empires to the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ught not only goods, but ______ from the world outside of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early 600s, cities such as Petra and Palmyra had long been prosperous trading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, in western Arabia, became an important stop on the trade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certain holy months, religious pilgrims would arrive with the trade caravans to worship at an ancient shrine in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called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bs associated _________________, believer in one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years, they introduced many gods and spi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one time over 360 idols brought by many t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serts, Towns, &amp; Travel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the ____________,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rabic, was not new to the Arabian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radition had long been followed by one group of people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ristians and Jews lived in Arab lands and practiced monotheism (_________________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into this environment of Mecca, around A.D. 750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____________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to the clan of a powerful Meccan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phaned at the age of 6, raised by grandfather and un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little sch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with trade caravan as a very young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me trader and business manager for ________, a wealthy business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married when he was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arriage and business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 of Muhamm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hammad took great interest in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t much time alone in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Muhammad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age of 40, Muhammad’s life changed overnight when he heard a voice while meditating in a cave outside of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Muslim belief, the voice is that of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riel told Muhammad he was a messenger of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asked Gabriel, “What shall I proclai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came to believe that 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believes he is the last of the proph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s 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gods must be aband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agreed with this basic principle of Islam were call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“_________________________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rabic, Islam means “_____________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’s first followers were his wife, Khadijah, and several close friends and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Muhammad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3, Muhammad begins preaching publicly in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cans believed Mecca would lose its position as a _____________ if people accepted Muhammad’s __________________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ollowers beaten or stoned in the str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hostility, Muhammad leaves Mecca in 622 and resettles in the town of _________, over 200 miles north of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igration became known as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igration attracted many devoted fol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thrib later named ______, “__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dina, Muhammad displays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made between his people and the Jews and Arabs of Medina; creates a single community with 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amd draws many more converts;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cts as _________ leader in hostility between Medina/Mec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7631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to Me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nd Meccans battled against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edouin tribes converted to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ca’s power as a city dec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0, Muhammad and 10,000 followers march to outskirts of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ng defeat, Mecca’s leaders surrender the city and the Prophet enters in triu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returns to _________ and decla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destroys the idols in the Ka’aba and makes _______________ from the Ka’aba 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Z0_vnon5owE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aLFYMkQPakE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eccans pledge loyalty to Muhammad &amp; many convert to Islam, thus joining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dies two years later at age of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aken great strides in 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0000"/>
                </a:solidFill>
                <a:latin typeface="Futura"/>
              </a:rPr>
              <a:t>Beliefs and Practices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God,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 Muslim, all believers have to carry out five duties…these are known as the 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To become a Muslim “There is no God but Allah, and Muhammad is the Messenger of Alla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5 times a day facing toward Mecca; the call to prayer http://www.youtube.com/watch?v=DoNPSEWn6a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all Muslims must support the less fortunate by giving alms, or money for the poor by paying a special religiou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During the Islamic holy month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uslims fast by restraining from food or drink from dawn until sunset.  A simple meal is eaten at the end of th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All Muslims perfor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least once in a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r identical garments so that all stand equal befor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0:00:50Z</dcterms:created>
  <dc:creator>System Administrator</dc:creator>
  <dc:description/>
  <dc:language>en-US</dc:language>
  <cp:lastModifiedBy>admin</cp:lastModifiedBy>
  <dcterms:modified xsi:type="dcterms:W3CDTF">2010-11-15T21:18:43Z</dcterms:modified>
  <cp:revision>75</cp:revision>
  <dc:subject/>
  <dc:title>The Rise of Islam</dc:title>
</cp:coreProperties>
</file>